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5D64D-419A-4F0F-A1AF-2DD5C2583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A2755-E69F-47FA-96D2-B2F6AEF0F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4F3E08-771D-4E15-96DA-1812F30ECE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376391-B199-4C04-BDC5-857CA5BFAA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F92E85-B9B6-45A0-B554-C4461B41BB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48826B-CCCF-4906-B692-C6ADC09387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1265FA-CD0B-42B6-AA2B-E8A6266B8B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D89E37-7350-4245-9948-8054DB69D6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DCB4B1-6B64-4699-8944-DCE041CC37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DD0696-C89C-49BF-87FD-79F15844DE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A649D2-D545-4F5F-BF4B-F8F36B8BF1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2CC71AF-3114-451E-A425-B552A8FA9C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7EBC9-4C75-4CFC-AE6A-2E2A015A4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095E19-EA5B-4B67-A14B-1EF04CA2D1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87AEFD-9AD7-4F0B-9A57-0BF49D2F4C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C6F11A-0B75-4CDC-ABB9-A5DFD8BC2D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BE9600-EEE4-40C5-BF7D-017BC9736D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502065-D733-4A08-A750-1FD07020DD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B3E780-A951-4463-B459-BD592DF2DD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9C43C4-9E7F-4496-97A3-E39B487F65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D421B1-88BC-497C-95AA-BF47A6005A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DB7935-25FD-49BD-9BA6-57AF50DCBC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8FD4E11-8C5E-42CB-9AD0-E2C1F80BD25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55DE9-8E82-4205-82EB-FB66E2DE4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C65DAA-4CBD-488E-B70C-24F2893C4DF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36E41CD-98D1-4C4E-95D1-A107AB0A936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A2C2DF-69A2-4036-AE16-A47831E3D5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E8D679-0A73-4FC5-864D-31EAAE2CA7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F1667E-B299-421F-B0D7-B801AEA342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5D4A87-79C9-4E4F-8363-C5400489E0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DB5344-E261-4908-AC4D-AE40E5D0D1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6A62F1-082D-460C-99A7-BACA504F0C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EB7B0C-3FD6-496C-8FB6-FB1CDC655C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563FAA-2CC9-44FE-A9A3-3D9A276014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36322-D0A8-4363-833B-C37BA1511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0EFD79-780D-48B7-B61F-47A63C7902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D3A2839-A078-408C-8366-8B58E20DCC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6D9276-2E98-4706-82EE-0C872E89A4B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91262B2-92E6-4B33-9C8B-0A071217DEB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52A6B0-933D-4ABD-9771-B2E2E4919A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37C218-9323-4831-ACEC-68EECC4353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0E2132-FE6C-4FC4-8E28-539053F82D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78206E-5E97-47FD-AE44-9B18DDB69D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6087DC-3829-4BC5-A172-D1A5500F16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EFF574-E645-49A5-A7C1-E697106E69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0A08C-6387-458F-B9E6-5CD4B2F14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94D63E-40E4-404A-8514-92A696BCBB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54B7DC-5F7E-43B5-9439-C7C9FA7A55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A5D4D8-C04F-437F-A5F7-97651E0ACD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ECB2BF4-5D0F-46B3-973A-F245CAC6E8B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099C1B5-FC26-447A-8747-4E9123CE6D0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1B6E14B-3904-425A-9F05-463D5494124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6F0D5C-9825-4AB4-B53B-CDFE291009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3060E9D-1E10-4EFE-B665-273F3ADA9E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05CA2D3-7ABA-4CB2-8915-EF8F5E27307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B79D54-E8DD-4C45-9B93-52B0690C24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3575D-7166-4998-9DCF-B5C1AD28C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1E35A9D-F271-41F9-BEA3-70557009E8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A9A95E-0A29-4AE0-8ECC-3F0534D45A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146C42-CCE3-4932-928C-AF975AF540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2BB5D2-76FE-4B70-9150-985426F48D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587A46-95F5-480E-9618-2FEAFD6D1A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EBB4A63-1EFC-4BBF-A61F-612490C3DFB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C89753D-B1CE-4F12-9DC3-244071CE105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2FF8A8-8719-48AB-BEFD-A3B377033C3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41D69E9-6D15-4763-A89B-FABECDD10A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564BD84-A66A-47A1-933C-817757F98B0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76892-9B10-48AF-976F-F43618C5D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4E5B80-5F5D-4DDC-B4C2-17D01790950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37EB0CC-110F-4A02-A867-E8E124FAC2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A7E54C-8E5E-4DF4-AA8B-07ED9D8C880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19F4CF-7783-474C-9ECB-D599E66FC1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267D30-B634-4072-994D-FC0A2E2740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A8CA87F-CC22-424A-A03D-FD17FDCB4D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0F3483-88B2-4E08-961A-11F46681937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9091F4B-8910-4D0D-B120-17EC2D10747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0F09705-57E3-4C7F-9BB3-2823025FF30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2C3056F1-C532-4C3A-9284-65973CC969F4}"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61DD4-EA1C-495E-9EA3-36574080D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3E950A5-E6BF-4C29-B688-A643D7B4D199}"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9B4AC82D-F2CA-43B4-9C28-4857CC9584C2}"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A17B760-8C54-4FD2-8725-0D32B99F6B2F}"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AF64B461-0602-4B54-A34B-17E7E3650B72}"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D512B99D-7F09-4E81-8FBD-F09578BE36F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C3B04FC-5A3B-4745-8A27-EB69674260F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C479BBF-A1AB-4CCC-913B-55FEB8AE40C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846D8FF-AE39-419D-823A-38D3BB626466}"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D83D3DE-7290-4E2E-A5ED-BE36A9253B2B}"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BE3E118F-7A87-4AF7-9863-076F77AE802B}"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574A2-E119-4902-AB2A-24BA82818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2E92E468-7219-4A40-BF1A-B202AC1C89CC}"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FC60F31-14BB-43FA-A5A0-9C22ED14028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600D31F-C701-4B69-B965-1C7C72FE73C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50EFEB0-0FB3-4D39-87C1-09DA6D3F2C4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8AEEB7B-9D80-4760-BDB4-E11FF0C483C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70B5B57-2B14-428D-A75A-A0752141359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C3CC372-B393-4D0C-B48B-D24055AF725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00AD06E-764F-4C03-9273-5514C3C827A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05CA67A-8F05-4912-8C7C-234D3D86F6A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92CD43-6765-4F17-A7DF-E5A445CE92E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076EF-2943-431A-ACB2-A401977CD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BF7C9CD-B6D1-4339-BF47-0955009D3A1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BCC1196-6F58-467C-BC21-EFDBC12B6B7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7308E64-ADC6-494A-8CCA-07A6EBE297C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A1056-047C-4EA8-9D43-1D0AAFCDE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A4516-F087-4442-98FA-37944A9BF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F86F1-A959-43BC-AC52-526881E10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B8B1B-98C2-40A9-B4C7-5A5318E48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5F4BB-6E4C-4685-8B4F-47C09D5AE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1A917-0B50-4382-AC05-D2FB35A3E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B3056A-E605-4D33-BA32-D35495ABDE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66715F-6495-4B62-9A9C-D72A5BBD0F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3F818E-FFFA-4F9A-B57F-342FB69689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407A93-59A1-4CF9-A788-2BE1104F1E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1D9E82-C74F-4EAA-833D-43FC257EFC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08BAE-F273-4ABC-A04C-A4A57CE83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9B59AF-9025-4A3C-8A20-C7B8DB2E27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48ADE5-3896-490A-900A-C839057F01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52A4A3-60F8-45B4-B81B-06C405290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8B9870-537C-4C5B-9C5D-9BE23987C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54BD8E-76DE-40FB-A882-A26C2FAF06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C6A91A-6673-4241-966B-0695463DD7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F501F3-785B-4C60-8BD6-1D4F924191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829D155-1A79-4AA2-BD44-2D3F58967E2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DD8F2FF-4765-489B-AEC5-3BC1563D497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21C33F-574F-404B-8DBF-9BD9C42608D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BB299-48F2-4552-BBD8-5E8C2F337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593E08E-44BF-403E-B7BE-BF41EE0915A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995544D-3257-45F3-A6A5-F69F6006A53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828E547-BEA2-45EA-B291-F1BD67562C3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5507EF-3B0D-43BE-8779-884CAFED9D0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669380-55C9-4BEB-B8FC-4334CEE9836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511AC7-DADE-495E-858A-CE9FA2F77D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8762274-F038-401E-9574-883A2141D73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F709979-B7ED-4AFE-A483-CA5568F5942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02227AD-2EDC-42E3-85F4-2F9F385A7EF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A2102FF-AD30-4274-BE5A-AC22FD8ABE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D1D11-0C0F-42F7-BD6D-4863614BD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11B06D5-A9AB-461B-B6D5-8DCB51654D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2BEC03F-C347-4E03-8BB0-5FC00E6CD1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B5BC5B4-C1E2-495A-8289-BEBACFA1B5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CDB833D-20FB-4D2E-85AB-638C67154C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EE3DBF-6D8B-4E3D-8533-26E6ED8228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21B746-C57C-4525-B13D-57E68BDB98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BCA677-E54C-44CC-BCD3-F8D55333CE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A88636-50E2-4F8F-9062-33C8CD9D23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1FDCE37-9506-4A08-B2E7-F45AF0C90A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8A7A3C3-5909-4C47-8544-BF39D6F26F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946C8-F270-4980-8A9A-4F1CD4ABD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7C290CE-9E45-4C7A-8529-E9204054F6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D0B22D-F852-45C2-81C2-1969554CE8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FF1610-0B13-43B8-8FD0-6AA46BBADC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923729-D18C-4D6C-B772-7A20199876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581062-0F01-45C6-A91E-C8C1CA8BDB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AC540C-A28D-4BFB-97AF-A1195746EA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81F61D-A5BD-45C9-9994-D8FBC38059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A3D87F-6F09-4311-B089-8D635972F0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FC8B31-34F7-4C66-82E6-700229176C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EE920A-BE00-474E-A788-D10304AD7D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00EFA-2D1F-473C-8435-BD12EB839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81FC51-1603-4890-BCC1-22761E8901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A944BD-2875-49F1-91A0-2640D61602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02FCA3-45EE-4D44-A6F6-85FBAA3D73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D1978E-E4BC-4C9F-B2E5-49387ADF41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3145EC-D860-4B93-B819-EC368B5799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5A8662-D499-48AC-AAAF-93A2801178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E84292-152D-4A7C-BDBD-F853D0F8AF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B40C89-FEAC-45EF-901A-23735CC9FA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E2386A-3CA3-4490-9E98-037181496C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0D47E1-64E7-4C5F-95DD-D965B918F5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C3BDA-C391-4F4B-90C4-CC3FF68C1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B8BEE6-E047-4B3C-88D2-8F15B53891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8A1523-04C7-4E49-8B98-DAF32FD3A8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096C70-7EF8-4A92-944E-E00B7AC4C3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C63E06-CA9E-4541-8064-3E0AD991FC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9D6F84-874C-4B87-80D4-BDD9443540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162A16-169B-4B7C-A7B0-E1846ADB9B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DC8FD4-4E8E-401E-AB44-D1B5119A5E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A46624-B7BE-4A07-BFB2-E72342F071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45D48F-B38B-4E5A-AD77-BF37BBB915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07ED85-E49B-4E7E-8654-BC7BBFC6A2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37098-A222-4736-8433-1D8076308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D2E884-18B7-4D8C-A40C-7617CDCF8F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059243-DC53-4243-8A89-7E70CA5E24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0FE36E-558D-44FE-B8D6-3E870A05BF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DB2B87-6E30-494F-A373-CDE7272D7B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5C1E30-31A4-4C36-9665-6F265F9BC5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89361E-E46E-417E-8D97-7528115B65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1DBF40-B8E1-4121-AD15-454E91A71E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57E15D-48DD-40B6-9018-9B3F594F70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F9231B-ACB2-4822-A690-8EF0AB1F1E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D53F1A-8FE5-4E0D-AA94-0F3B366EA4E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990E-18AC-44CA-8E5D-142F2678F2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52" name=""/>
          <p:cNvGrpSpPr/>
          <p:nvPr/>
        </p:nvGrpSpPr>
        <p:grpSpPr>
          <a:xfrm>
            <a:off x="0" y="0"/>
            <a:ext cx="9144000" cy="6856560"/>
            <a:chOff x="0" y="0"/>
            <a:chExt cx="9144000" cy="6856560"/>
          </a:xfrm>
        </p:grpSpPr>
        <p:sp>
          <p:nvSpPr>
            <p:cNvPr id="45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7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8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9" name=""/>
            <p:cNvGrpSpPr/>
            <p:nvPr/>
          </p:nvGrpSpPr>
          <p:grpSpPr>
            <a:xfrm>
              <a:off x="0" y="2590920"/>
              <a:ext cx="9140760" cy="2949480"/>
              <a:chOff x="0" y="2590920"/>
              <a:chExt cx="9140760" cy="2949480"/>
            </a:xfrm>
          </p:grpSpPr>
          <p:sp>
            <p:nvSpPr>
              <p:cNvPr id="49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9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493"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9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95"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E65E-F6CE-475E-A02F-66365577FD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2"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3240" y="4267080"/>
            <a:ext cx="9140760" cy="2590920"/>
            <a:chOff x="3240" y="4267080"/>
            <a:chExt cx="9140760" cy="2590920"/>
          </a:xfrm>
        </p:grpSpPr>
        <p:sp>
          <p:nvSpPr>
            <p:cNvPr id="53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5" name=""/>
            <p:cNvGrpSpPr/>
            <p:nvPr/>
          </p:nvGrpSpPr>
          <p:grpSpPr>
            <a:xfrm>
              <a:off x="5600880" y="5897520"/>
              <a:ext cx="1256760" cy="827280"/>
              <a:chOff x="5600880" y="5897520"/>
              <a:chExt cx="1256760" cy="827280"/>
            </a:xfrm>
          </p:grpSpPr>
          <p:sp>
            <p:nvSpPr>
              <p:cNvPr id="53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547" name=""/>
            <p:cNvGrpSpPr/>
            <p:nvPr/>
          </p:nvGrpSpPr>
          <p:grpSpPr>
            <a:xfrm>
              <a:off x="2819520" y="5764320"/>
              <a:ext cx="2581200" cy="1084320"/>
              <a:chOff x="2819520" y="5764320"/>
              <a:chExt cx="2581200" cy="1084320"/>
            </a:xfrm>
          </p:grpSpPr>
          <p:sp>
            <p:nvSpPr>
              <p:cNvPr id="54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5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6" name=""/>
            <p:cNvGrpSpPr/>
            <p:nvPr/>
          </p:nvGrpSpPr>
          <p:grpSpPr>
            <a:xfrm>
              <a:off x="6553080" y="5334120"/>
              <a:ext cx="2144880" cy="1303200"/>
              <a:chOff x="6553080" y="5334120"/>
              <a:chExt cx="2144880" cy="1303200"/>
            </a:xfrm>
          </p:grpSpPr>
          <p:sp>
            <p:nvSpPr>
              <p:cNvPr id="56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7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7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84" name=""/>
            <p:cNvGrpSpPr/>
            <p:nvPr/>
          </p:nvGrpSpPr>
          <p:grpSpPr>
            <a:xfrm>
              <a:off x="8381880" y="4800600"/>
              <a:ext cx="674640" cy="409680"/>
              <a:chOff x="8381880" y="4800600"/>
              <a:chExt cx="674640" cy="409680"/>
            </a:xfrm>
          </p:grpSpPr>
          <p:sp>
            <p:nvSpPr>
              <p:cNvPr id="58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8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8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2" name=""/>
              <p:cNvGrpSpPr/>
              <p:nvPr/>
            </p:nvGrpSpPr>
            <p:grpSpPr>
              <a:xfrm>
                <a:off x="8542440" y="4897440"/>
                <a:ext cx="360360" cy="209520"/>
                <a:chOff x="8542440" y="4897440"/>
                <a:chExt cx="360360" cy="209520"/>
              </a:xfrm>
            </p:grpSpPr>
            <p:sp>
              <p:nvSpPr>
                <p:cNvPr id="59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9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5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989B-31C8-4B72-8042-4C72080EB9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38" name=""/>
          <p:cNvGrpSpPr/>
          <p:nvPr/>
        </p:nvGrpSpPr>
        <p:grpSpPr>
          <a:xfrm>
            <a:off x="3240" y="4267080"/>
            <a:ext cx="9140760" cy="2590920"/>
            <a:chOff x="3240" y="4267080"/>
            <a:chExt cx="9140760" cy="2590920"/>
          </a:xfrm>
        </p:grpSpPr>
        <p:sp>
          <p:nvSpPr>
            <p:cNvPr id="63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0" name=""/>
            <p:cNvGrpSpPr/>
            <p:nvPr/>
          </p:nvGrpSpPr>
          <p:grpSpPr>
            <a:xfrm>
              <a:off x="5600880" y="5897520"/>
              <a:ext cx="1256760" cy="827280"/>
              <a:chOff x="5600880" y="5897520"/>
              <a:chExt cx="1256760" cy="827280"/>
            </a:xfrm>
          </p:grpSpPr>
          <p:sp>
            <p:nvSpPr>
              <p:cNvPr id="64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652" name=""/>
            <p:cNvGrpSpPr/>
            <p:nvPr/>
          </p:nvGrpSpPr>
          <p:grpSpPr>
            <a:xfrm>
              <a:off x="2819520" y="5764320"/>
              <a:ext cx="2581200" cy="1084320"/>
              <a:chOff x="2819520" y="5764320"/>
              <a:chExt cx="2581200" cy="1084320"/>
            </a:xfrm>
          </p:grpSpPr>
          <p:sp>
            <p:nvSpPr>
              <p:cNvPr id="65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6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1" name=""/>
            <p:cNvGrpSpPr/>
            <p:nvPr/>
          </p:nvGrpSpPr>
          <p:grpSpPr>
            <a:xfrm>
              <a:off x="6553080" y="5334120"/>
              <a:ext cx="2144880" cy="1303200"/>
              <a:chOff x="6553080" y="5334120"/>
              <a:chExt cx="2144880" cy="1303200"/>
            </a:xfrm>
          </p:grpSpPr>
          <p:sp>
            <p:nvSpPr>
              <p:cNvPr id="67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7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8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689" name=""/>
            <p:cNvGrpSpPr/>
            <p:nvPr/>
          </p:nvGrpSpPr>
          <p:grpSpPr>
            <a:xfrm>
              <a:off x="8381880" y="4800600"/>
              <a:ext cx="674640" cy="409680"/>
              <a:chOff x="8381880" y="4800600"/>
              <a:chExt cx="674640" cy="409680"/>
            </a:xfrm>
          </p:grpSpPr>
          <p:sp>
            <p:nvSpPr>
              <p:cNvPr id="69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9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9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7" name=""/>
              <p:cNvGrpSpPr/>
              <p:nvPr/>
            </p:nvGrpSpPr>
            <p:grpSpPr>
              <a:xfrm>
                <a:off x="8542440" y="4897440"/>
                <a:ext cx="360360" cy="209520"/>
                <a:chOff x="8542440" y="4897440"/>
                <a:chExt cx="360360" cy="209520"/>
              </a:xfrm>
            </p:grpSpPr>
            <p:sp>
              <p:nvSpPr>
                <p:cNvPr id="69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0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0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03"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04"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5"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BD15-3FEA-476E-9AC8-EE09A1ED87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42" name=""/>
          <p:cNvGrpSpPr/>
          <p:nvPr/>
        </p:nvGrpSpPr>
        <p:grpSpPr>
          <a:xfrm>
            <a:off x="1440" y="0"/>
            <a:ext cx="9149040" cy="6851520"/>
            <a:chOff x="1440" y="0"/>
            <a:chExt cx="9149040" cy="6851520"/>
          </a:xfrm>
        </p:grpSpPr>
        <p:sp>
          <p:nvSpPr>
            <p:cNvPr id="743"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6" name=""/>
            <p:cNvGrpSpPr/>
            <p:nvPr/>
          </p:nvGrpSpPr>
          <p:grpSpPr>
            <a:xfrm>
              <a:off x="457200" y="0"/>
              <a:ext cx="8093160" cy="6851520"/>
              <a:chOff x="457200" y="0"/>
              <a:chExt cx="8093160" cy="6851520"/>
            </a:xfrm>
          </p:grpSpPr>
          <p:sp>
            <p:nvSpPr>
              <p:cNvPr id="747"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0"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1" name=""/>
            <p:cNvGrpSpPr/>
            <p:nvPr/>
          </p:nvGrpSpPr>
          <p:grpSpPr>
            <a:xfrm>
              <a:off x="1440" y="622440"/>
              <a:ext cx="9141120" cy="2493720"/>
              <a:chOff x="1440" y="622440"/>
              <a:chExt cx="9141120" cy="2493720"/>
            </a:xfrm>
          </p:grpSpPr>
          <p:sp>
            <p:nvSpPr>
              <p:cNvPr id="772"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7"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80" name="PlaceHolder 2"/>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781"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782" name="PlaceHolder 4"/>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F2C5-AD25-44C1-ABFA-55062094FBA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78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20" name=""/>
          <p:cNvGrpSpPr/>
          <p:nvPr/>
        </p:nvGrpSpPr>
        <p:grpSpPr>
          <a:xfrm>
            <a:off x="0" y="0"/>
            <a:ext cx="9148320" cy="6851520"/>
            <a:chOff x="0" y="0"/>
            <a:chExt cx="9148320" cy="6851520"/>
          </a:xfrm>
        </p:grpSpPr>
        <p:sp>
          <p:nvSpPr>
            <p:cNvPr id="821"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4" name=""/>
            <p:cNvGrpSpPr/>
            <p:nvPr/>
          </p:nvGrpSpPr>
          <p:grpSpPr>
            <a:xfrm>
              <a:off x="455400" y="0"/>
              <a:ext cx="8092440" cy="6851520"/>
              <a:chOff x="455400" y="0"/>
              <a:chExt cx="8092440" cy="6851520"/>
            </a:xfrm>
          </p:grpSpPr>
          <p:sp>
            <p:nvSpPr>
              <p:cNvPr id="825"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8"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49" name=""/>
            <p:cNvGrpSpPr/>
            <p:nvPr/>
          </p:nvGrpSpPr>
          <p:grpSpPr>
            <a:xfrm>
              <a:off x="0" y="622440"/>
              <a:ext cx="9140760" cy="2493720"/>
              <a:chOff x="0" y="622440"/>
              <a:chExt cx="9140760" cy="2493720"/>
            </a:xfrm>
          </p:grpSpPr>
          <p:sp>
            <p:nvSpPr>
              <p:cNvPr id="850"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5"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58"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59"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860"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7F53-AC8A-4266-A7D6-4BD8AA1CFE9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898"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99" name="PlaceHolder 3"/>
          <p:cNvSpPr>
            <a:spLocks noGrp="1"/>
          </p:cNvSpPr>
          <p:nvPr>
            <p:ph type="ftr" idx="4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00"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3E0C-E136-45C7-BFB9-2ADA9A7F1A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01"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03" name=""/>
          <p:cNvGrpSpPr/>
          <p:nvPr/>
        </p:nvGrpSpPr>
        <p:grpSpPr>
          <a:xfrm>
            <a:off x="228600" y="457200"/>
            <a:ext cx="1246320" cy="1371600"/>
            <a:chOff x="228600" y="457200"/>
            <a:chExt cx="1246320" cy="1371600"/>
          </a:xfrm>
        </p:grpSpPr>
        <p:sp>
          <p:nvSpPr>
            <p:cNvPr id="904"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17" name="PlaceHolder 5"/>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955"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956"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57"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6C0D-410B-409B-BA5E-36E783BF45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58"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9" name=""/>
          <p:cNvGrpSpPr/>
          <p:nvPr/>
        </p:nvGrpSpPr>
        <p:grpSpPr>
          <a:xfrm>
            <a:off x="228600" y="1447920"/>
            <a:ext cx="2286000" cy="2514600"/>
            <a:chOff x="228600" y="1447920"/>
            <a:chExt cx="2286000" cy="2514600"/>
          </a:xfrm>
        </p:grpSpPr>
        <p:sp>
          <p:nvSpPr>
            <p:cNvPr id="960"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73"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F686-689B-4C5E-9DA8-DEB468D7F1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B34E-7C5A-47A6-906C-A4180EF35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CEAF-43B9-4B38-A508-005AD1EA44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5" name="PlaceHolder 2"/>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984E-8663-450A-A453-EAE14E95D6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66" name=""/>
          <p:cNvGrpSpPr/>
          <p:nvPr/>
        </p:nvGrpSpPr>
        <p:grpSpPr>
          <a:xfrm>
            <a:off x="0" y="0"/>
            <a:ext cx="9140760" cy="6850080"/>
            <a:chOff x="0" y="0"/>
            <a:chExt cx="9140760" cy="6850080"/>
          </a:xfrm>
        </p:grpSpPr>
        <p:grpSp>
          <p:nvGrpSpPr>
            <p:cNvPr id="167" name=""/>
            <p:cNvGrpSpPr/>
            <p:nvPr/>
          </p:nvGrpSpPr>
          <p:grpSpPr>
            <a:xfrm>
              <a:off x="2743200" y="3540240"/>
              <a:ext cx="6392880" cy="3309840"/>
              <a:chOff x="2743200" y="3540240"/>
              <a:chExt cx="6392880" cy="3309840"/>
            </a:xfrm>
          </p:grpSpPr>
          <p:sp>
            <p:nvSpPr>
              <p:cNvPr id="168"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76" name="PlaceHolder 4"/>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7"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14" name=""/>
          <p:cNvGrpSpPr/>
          <p:nvPr/>
        </p:nvGrpSpPr>
        <p:grpSpPr>
          <a:xfrm>
            <a:off x="0" y="0"/>
            <a:ext cx="9140760" cy="6850080"/>
            <a:chOff x="0" y="0"/>
            <a:chExt cx="9140760" cy="6850080"/>
          </a:xfrm>
        </p:grpSpPr>
        <p:grpSp>
          <p:nvGrpSpPr>
            <p:cNvPr id="215" name=""/>
            <p:cNvGrpSpPr/>
            <p:nvPr/>
          </p:nvGrpSpPr>
          <p:grpSpPr>
            <a:xfrm>
              <a:off x="2743200" y="3540240"/>
              <a:ext cx="6392880" cy="3309840"/>
              <a:chOff x="2743200" y="3540240"/>
              <a:chExt cx="6392880" cy="3309840"/>
            </a:xfrm>
          </p:grpSpPr>
          <p:sp>
            <p:nvSpPr>
              <p:cNvPr id="21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224" name="PlaceHolder 2"/>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5" name="PlaceHolder 3"/>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6" name="PlaceHolder 4"/>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5E89-7419-49D5-A39D-89607914FE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63" name=""/>
          <p:cNvGrpSpPr/>
          <p:nvPr/>
        </p:nvGrpSpPr>
        <p:grpSpPr>
          <a:xfrm>
            <a:off x="0" y="6480"/>
            <a:ext cx="9140760" cy="6851520"/>
            <a:chOff x="0" y="6480"/>
            <a:chExt cx="9140760" cy="6851520"/>
          </a:xfrm>
        </p:grpSpPr>
        <p:sp>
          <p:nvSpPr>
            <p:cNvPr id="26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0" y="6480"/>
              <a:ext cx="9140760" cy="6851520"/>
              <a:chOff x="0" y="6480"/>
              <a:chExt cx="9140760" cy="6851520"/>
            </a:xfrm>
          </p:grpSpPr>
          <p:sp>
            <p:nvSpPr>
              <p:cNvPr id="26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7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8" name="PlaceHolder 3"/>
          <p:cNvSpPr>
            <a:spLocks noGrp="1"/>
          </p:cNvSpPr>
          <p:nvPr>
            <p:ph type="dt" idx="19"/>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79" name="PlaceHolder 4"/>
          <p:cNvSpPr>
            <a:spLocks noGrp="1"/>
          </p:cNvSpPr>
          <p:nvPr>
            <p:ph type="ftr" idx="20"/>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80" name="PlaceHolder 5"/>
          <p:cNvSpPr>
            <a:spLocks noGrp="1"/>
          </p:cNvSpPr>
          <p:nvPr>
            <p:ph type="sldNum" idx="21"/>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BB50-AFAC-4A71-B349-8A310ACFC83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17" name=""/>
          <p:cNvGrpSpPr/>
          <p:nvPr/>
        </p:nvGrpSpPr>
        <p:grpSpPr>
          <a:xfrm>
            <a:off x="0" y="6480"/>
            <a:ext cx="9140760" cy="6851520"/>
            <a:chOff x="0" y="6480"/>
            <a:chExt cx="9140760" cy="6851520"/>
          </a:xfrm>
        </p:grpSpPr>
        <p:grpSp>
          <p:nvGrpSpPr>
            <p:cNvPr id="318" name=""/>
            <p:cNvGrpSpPr/>
            <p:nvPr/>
          </p:nvGrpSpPr>
          <p:grpSpPr>
            <a:xfrm>
              <a:off x="0" y="1843200"/>
              <a:ext cx="9140760" cy="5014800"/>
              <a:chOff x="0" y="1843200"/>
              <a:chExt cx="9140760" cy="5014800"/>
            </a:xfrm>
          </p:grpSpPr>
          <p:sp>
            <p:nvSpPr>
              <p:cNvPr id="319"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324" name=""/>
            <p:cNvGrpSpPr/>
            <p:nvPr/>
          </p:nvGrpSpPr>
          <p:grpSpPr>
            <a:xfrm>
              <a:off x="552600" y="6480"/>
              <a:ext cx="8588160" cy="6851520"/>
              <a:chOff x="552600" y="6480"/>
              <a:chExt cx="8588160" cy="6851520"/>
            </a:xfrm>
          </p:grpSpPr>
          <p:sp>
            <p:nvSpPr>
              <p:cNvPr id="32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33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332" name="PlaceHolder 2"/>
          <p:cNvSpPr>
            <a:spLocks noGrp="1"/>
          </p:cNvSpPr>
          <p:nvPr>
            <p:ph type="dt" idx="22"/>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33" name="PlaceHolder 3"/>
          <p:cNvSpPr>
            <a:spLocks noGrp="1"/>
          </p:cNvSpPr>
          <p:nvPr>
            <p:ph type="ftr" idx="23"/>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34" name="PlaceHolder 4"/>
          <p:cNvSpPr>
            <a:spLocks noGrp="1"/>
          </p:cNvSpPr>
          <p:nvPr>
            <p:ph type="sldNum" idx="24"/>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44E0-33A9-4E4E-AF8D-56014525354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371" name=""/>
          <p:cNvGrpSpPr/>
          <p:nvPr/>
        </p:nvGrpSpPr>
        <p:grpSpPr>
          <a:xfrm>
            <a:off x="0" y="0"/>
            <a:ext cx="9144000" cy="6856560"/>
            <a:chOff x="0" y="0"/>
            <a:chExt cx="9144000" cy="6856560"/>
          </a:xfrm>
        </p:grpSpPr>
        <p:sp>
          <p:nvSpPr>
            <p:cNvPr id="37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9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8" name=""/>
            <p:cNvGrpSpPr/>
            <p:nvPr/>
          </p:nvGrpSpPr>
          <p:grpSpPr>
            <a:xfrm>
              <a:off x="0" y="2590920"/>
              <a:ext cx="9140760" cy="2949480"/>
              <a:chOff x="0" y="2590920"/>
              <a:chExt cx="9140760" cy="2949480"/>
            </a:xfrm>
          </p:grpSpPr>
          <p:sp>
            <p:nvSpPr>
              <p:cNvPr id="40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3"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1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15"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C531-FBB4-4D09-8145-F7DFA6D817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hyperlink" Target="http://www.pandia.com/goalgetter/" TargetMode="External"/><Relationship Id="rId2" Type="http://schemas.openxmlformats.org/officeDocument/2006/relationships/hyperlink" Target="http://www.lib.berkeley.edu/TeachingLib/Guides/Internet/FindInfo.html" TargetMode="External"/><Relationship Id="rId3" Type="http://schemas.openxmlformats.org/officeDocument/2006/relationships/hyperlink" Target="http://www.sc.edu/beaufort/library/pages/bones/bones.shtml" TargetMode="External"/><Relationship Id="rId4"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ternet Tutorial </a:t>
            </a:r>
            <a:endParaRPr b="0" lang="en-US" sz="4400" spc="-1" strike="noStrike">
              <a:solidFill>
                <a:srgbClr val="b7e7ff"/>
              </a:solidFill>
              <a:latin typeface="Arial"/>
            </a:endParaRPr>
          </a:p>
        </p:txBody>
      </p:sp>
      <p:sp>
        <p:nvSpPr>
          <p:cNvPr id="10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Kansas_De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finitions</a:t>
            </a:r>
            <a:endParaRPr b="0" lang="en-US" sz="4400" spc="-1" strike="noStrike">
              <a:solidFill>
                <a:srgbClr val="ffffff"/>
              </a:solidFill>
              <a:latin typeface="Tahoma"/>
            </a:endParaRPr>
          </a:p>
        </p:txBody>
      </p:sp>
      <p:sp>
        <p:nvSpPr>
          <p:cNvPr id="10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EYWORDS--</a:t>
            </a:r>
            <a:r>
              <a:rPr b="0" lang="en-US" sz="2800" spc="-1" strike="noStrike">
                <a:solidFill>
                  <a:srgbClr val="ffffff"/>
                </a:solidFill>
                <a:latin typeface="Tahoma"/>
              </a:rPr>
              <a:t> A word searched for in a search command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eta search--</a:t>
            </a:r>
            <a:r>
              <a:rPr b="0" lang="en-US" sz="2800" spc="-1" strike="noStrike">
                <a:solidFill>
                  <a:srgbClr val="ffffff"/>
                </a:solidFill>
                <a:latin typeface="Tahoma"/>
              </a:rPr>
              <a:t>a search engine that sends user requests to several other search engines and/or databases and returns the results from each one. Meta search enables users to enter search criteria once and access several search engines simultaneousl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arch Engines</a:t>
            </a:r>
            <a:endParaRPr b="1" lang="en-US" sz="4400" spc="-1" strike="noStrike">
              <a:solidFill>
                <a:srgbClr val="e5e5ff"/>
              </a:solidFill>
              <a:latin typeface="Garamond"/>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ly use search engines that you know how to us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Examples of easy to use search engin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oogle, Yahoo! Search, Msn Search, and Ask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e Careful </a:t>
            </a:r>
            <a:endParaRPr b="1" lang="en-US" sz="4400" spc="-1" strike="noStrike">
              <a:solidFill>
                <a:srgbClr val="eaeaea"/>
              </a:solidFill>
              <a:latin typeface="Tahoma"/>
            </a:endParaRPr>
          </a:p>
        </p:txBody>
      </p:sp>
      <p:sp>
        <p:nvSpPr>
          <p:cNvPr id="10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very careful on how you search for things because search engines although very helpful can be very stupid at tim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xample of this--If you ask them for a pan pizza they may not only give you pages on pizza and pan pizza, but also information about the god Pan, Pan flutes, frying pans, Peter Pan, Pan Arabian co-operation and mor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stead put what you are looking for in quotation mark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Pan Piz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Be Careful </a:t>
            </a:r>
            <a:endParaRPr b="0" lang="en-US" sz="3900" spc="-1" strike="noStrike">
              <a:solidFill>
                <a:srgbClr val="ffffff"/>
              </a:solidFill>
              <a:latin typeface="Arial"/>
            </a:endParaRPr>
          </a:p>
        </p:txBody>
      </p:sp>
      <p:sp>
        <p:nvSpPr>
          <p:cNvPr id="10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searching for both a cat and a dog don’t just type cat and dog. Type Cat+Dog. Use as least words as you can when searching for things. This cuts down all the extra unneeded popup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arching a Famous Person</a:t>
            </a:r>
            <a:endParaRPr b="0" lang="en-US" sz="4400" spc="-1" strike="noStrike">
              <a:solidFill>
                <a:srgbClr val="ffffff"/>
              </a:solidFill>
              <a:latin typeface="Arial"/>
            </a:endParaRPr>
          </a:p>
        </p:txBody>
      </p:sp>
      <p:sp>
        <p:nvSpPr>
          <p:cNvPr id="10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y you were looking for information on some one famous you could be down "Thomas Alva Edison" but that would not give you pages with names like Thomas A. Edison or Thomas Edison. Instead put in this “Thomas Alva Edison" OR "Thomas A. Edison" OR "Thomas Edison". This will help you take care of this problem. </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pelling</a:t>
            </a:r>
            <a:endParaRPr b="0" lang="en-US" sz="4400" spc="-1" strike="noStrike">
              <a:solidFill>
                <a:srgbClr val="ccecff"/>
              </a:solidFill>
              <a:latin typeface="Arial"/>
            </a:endParaRPr>
          </a:p>
        </p:txBody>
      </p:sp>
      <p:sp>
        <p:nvSpPr>
          <p:cNvPr id="10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earch engines are very sensitive so make sure you always spell things right. And if something is supposed to be lower case make sure it is. And the same goes with it if it’s suppose to be upper c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rces</a:t>
            </a:r>
            <a:endParaRPr b="0" lang="en-US" sz="4400" spc="-1" strike="noStrike">
              <a:solidFill>
                <a:srgbClr val="ccecff"/>
              </a:solidFill>
              <a:latin typeface="Arial"/>
            </a:endParaRPr>
          </a:p>
        </p:txBody>
      </p:sp>
      <p:sp>
        <p:nvSpPr>
          <p:cNvPr id="10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1"/>
              </a:rPr>
              <a:t>http://www.pandia.com/goalgetter/</a:t>
            </a:r>
            <a:r>
              <a:rPr b="0" lang="en-US" sz="3200" spc="-1" strike="noStrike" u="sng">
                <a:solidFill>
                  <a:srgbClr val="ffffff"/>
                </a:solidFill>
                <a:uFillTx/>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2"/>
              </a:rPr>
              <a:t>http://www.lib.berkeley.edu/TeachingLib/Guides/Internet/FindInfo.html</a:t>
            </a:r>
            <a:r>
              <a:rPr b="0" lang="en-US" sz="3200" spc="-1" strike="noStrike" u="sng">
                <a:solidFill>
                  <a:srgbClr val="ffffff"/>
                </a:solidFill>
                <a:uFillTx/>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3"/>
              </a:rPr>
              <a:t>http://www.sc.edu/beaufort/library/pages/bones/bones.shtml</a:t>
            </a:r>
            <a:r>
              <a:rPr b="0" lang="en-US" sz="3200" spc="-1" strike="noStrike" u="sng">
                <a:solidFill>
                  <a:srgbClr val="ffffff"/>
                </a:solidFill>
                <a:uFillTx/>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en.wikipedia.org/wiki/Metasearch_engin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16:18:48Z</dcterms:created>
  <dc:creator>Armour User</dc:creator>
  <dc:description/>
  <dc:language>en-US</dc:language>
  <cp:lastModifiedBy>Armour User</cp:lastModifiedBy>
  <dcterms:modified xsi:type="dcterms:W3CDTF">2007-10-10T15:43:13Z</dcterms:modified>
  <cp:revision>4</cp:revision>
  <dc:subject/>
  <dc:title>Internet Tutorial </dc:title>
</cp:coreProperties>
</file>